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gif" ContentType="image/gif"/>
  <Override PartName="/ppt/media/image3.jpeg" ContentType="image/jpeg"/>
  <Override PartName="/ppt/media/image9.gif" ContentType="image/gif"/>
  <Override PartName="/ppt/media/image7.png" ContentType="image/png"/>
  <Override PartName="/ppt/media/image1.jpeg" ContentType="image/jpeg"/>
  <Override PartName="/ppt/media/image11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22.png" ContentType="image/png"/>
  <Override PartName="/ppt/media/image19.gif" ContentType="image/gif"/>
  <Override PartName="/ppt/media/image24.png" ContentType="image/png"/>
  <Override PartName="/ppt/media/image21.gif" ContentType="image/gif"/>
  <Override PartName="/ppt/media/image20.png" ContentType="image/png"/>
  <Override PartName="/ppt/media/image18.png" ContentType="image/png"/>
  <Override PartName="/ppt/media/image15.jpeg" ContentType="image/jpeg"/>
  <Override PartName="/ppt/media/image23.gif" ContentType="image/gif"/>
  <Override PartName="/ppt/media/image17.jpeg" ContentType="image/jpeg"/>
  <Override PartName="/ppt/media/image16.jpeg" ContentType="image/jpeg"/>
  <Override PartName="/ppt/media/image14.jpeg" ContentType="image/jpeg"/>
  <Override PartName="/ppt/media/image25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B493-7D4B-45ED-918E-0FEA8262A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742B-3BEF-4E5B-8743-DBA8B731F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643A-4D03-447D-BF09-B09DB782E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FBC6-14CA-4B8A-B948-7328D193F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7380D-9981-4D3D-B5CC-6876B1476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01107-6664-45EF-8E6F-4AF724353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F1906-12A7-4978-A6AA-0D4DBE03D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01512-A583-4D18-800C-58A289A51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F865C-6D02-4EB1-8876-270F93064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8B536-4F5F-45A9-BEAA-CD3FAB9F0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2F04F-2ECD-496D-8EE5-EF630A3BD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B6F1-2832-4CAD-AA19-1C7B27176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92A9D-38B0-484D-9BF5-6F1B12255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33F4E-A9A9-44F7-9FF1-D5B0C4C03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24852-56B7-4036-A69C-B1894E1A4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7D51A-5070-46AC-8FFA-EEABBB14F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F340E-D875-4BFC-998F-CCCD852DA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9753-E4E6-4273-85F8-20B963D45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525C-476C-4C91-B982-B10EBE2F4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2E2A-A8B8-49BE-B984-2EC7E830E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1811-EEBF-4B8D-AA16-98D1D3450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FED4-5AF2-4BEB-8BE1-3ECC5401F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C482-8B3A-4C9E-9C3F-E454F47A9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7006-05E4-4579-AA43-4270C0A12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49F0A-4526-4AE7-B826-0736B643ACC7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6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7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680C3-9F3A-4CE2-B58A-366D8BE3F5DA}" type="slidenum">
              <a:rPr b="0" lang="es-E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uaad.udg.mx/~lprado/portal-psic/Sistema%20visual/Analogia%20camara-ojo.htm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png"/><Relationship Id="rId3" Type="http://schemas.openxmlformats.org/officeDocument/2006/relationships/image" Target="../media/image21.gif"/><Relationship Id="rId4" Type="http://schemas.openxmlformats.org/officeDocument/2006/relationships/image" Target="../media/image22.png"/><Relationship Id="rId5" Type="http://schemas.openxmlformats.org/officeDocument/2006/relationships/image" Target="../media/image23.gif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audicion-cr.com/oido2.html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8000" y="691920"/>
            <a:ext cx="6702480" cy="24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Arial"/>
              </a:rPr>
              <a:t>TEMA 6:</a:t>
            </a: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 ESTÍMULO Y RESPUESTA. RECEPTORES Y EFECTOR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979280" y="3573000"/>
            <a:ext cx="663084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16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 u="sng">
                <a:solidFill>
                  <a:srgbClr val="000000"/>
                </a:solidFill>
                <a:uFillTx/>
                <a:latin typeface="Arial"/>
              </a:rPr>
              <a:t>ÍNDICE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1. PERCEPCIÓN DEL MEDI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2. EL SENTIDO DEL TACT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3. LOS SENTIDOS DEL OLFATO Y EL GUST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4. EL SENTIDO DEL OÍD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5. EL SENTIDO DE LA VIST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6. LA ELABORACIÓN DE LA RESPUEST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7. EL SISTEMA LOCOMOTO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8. ARTICULACIONES Y MOVIMIENT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55640" y="190080"/>
            <a:ext cx="77788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000000"/>
                </a:solidFill>
                <a:latin typeface="Arial"/>
              </a:rPr>
              <a:t>5. EL SENTIDO DE LA VISTA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60872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os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ojo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son los órganos donde reside el sentido de la vis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Estructura del oj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Arial"/>
              </a:rPr>
              <a:t>Órganos anejo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ceja, párpado, pestañas, glándula lacrim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Arial"/>
              </a:rPr>
              <a:t>Globo ocula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ap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Esclerótica: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capa externa, protege y da forma al ojo. Delante está la córnea (es transparente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Coroides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: capa oscura en el interior del oj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Retina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: capa con los receptores visuales (conos y bastones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ristalin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lente transparente tras el ir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upil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abertura en el centro del ir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órne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Iri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músculo circular bajo la córne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" descr="En esta imagen se observa la anatomía interna del globo ocular. Tomada de perso.wanadoo.es\icsalud"/>
          <p:cNvPicPr/>
          <p:nvPr/>
        </p:nvPicPr>
        <p:blipFill>
          <a:blip r:embed="rId1"/>
          <a:stretch/>
        </p:blipFill>
        <p:spPr>
          <a:xfrm>
            <a:off x="4859280" y="2205000"/>
            <a:ext cx="4284720" cy="4408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2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5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8" dur="5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1" dur="5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4" dur="500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7" dur="500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0" dur="500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3" dur="500"/>
                                        <p:tgtEl>
                                          <p:spTgt spid="1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250560" y="3068640"/>
            <a:ext cx="8569080" cy="37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 u="sng">
                <a:solidFill>
                  <a:srgbClr val="000000"/>
                </a:solidFill>
                <a:uFillTx/>
                <a:latin typeface="Arial"/>
              </a:rPr>
              <a:t>Funcionamiento del ojo: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 la luz penetra por las </a:t>
            </a:r>
            <a:r>
              <a:rPr b="1" lang="es-ES" sz="2100" spc="-1" strike="noStrike">
                <a:solidFill>
                  <a:srgbClr val="000000"/>
                </a:solidFill>
                <a:latin typeface="Arial"/>
              </a:rPr>
              <a:t>pupilas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 y gracias al </a:t>
            </a:r>
            <a:r>
              <a:rPr b="1" lang="es-ES" sz="2100" spc="-1" strike="noStrike">
                <a:solidFill>
                  <a:srgbClr val="000000"/>
                </a:solidFill>
                <a:latin typeface="Arial"/>
              </a:rPr>
              <a:t>cristalino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 las imágenes se forman en la retina. Los receptores de la retina captan la luz reflejada por los objetos y producen </a:t>
            </a:r>
            <a:r>
              <a:rPr b="0" i="1" lang="es-ES" sz="2100" spc="-1" strike="noStrike">
                <a:solidFill>
                  <a:srgbClr val="000000"/>
                </a:solidFill>
                <a:latin typeface="Arial"/>
              </a:rPr>
              <a:t>impulsos nerviosos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 que se transportan por el nervio óptico hasta el cerebr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ara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ver los objeto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el ojo realiz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Acomodació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el cristalino adapta la curvatura y permite que las imágenes se sitúen correctamente sobre la re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Regulación de la cantidad de luz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la pupila se cierra o abre en función de la intensidad lumino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Receptore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de dos tip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Bastones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perciben luz de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baja intensidad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(noch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Cono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perciben los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colore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(dí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5" descr="La imagen que se forma sobre la retina es invertida y de menor tamaño que la realidad; en la retina se genera un impulso eléctrico que llega a la corteza visual donde se produce la sensación de ver. Tomada de salud.discoveryespanol.com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0"/>
            <a:ext cx="6264360" cy="2924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79280" y="1197000"/>
            <a:ext cx="8785440" cy="35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Anomalías de la visión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Arial"/>
              </a:rPr>
              <a:t>Miopía: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longitud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excesiv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del globo ocular que hace que los objetos se sitúen delante de la retina. Para corregirlo se usan lentes divergen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Arial"/>
              </a:rPr>
              <a:t>Hipermiopía: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escas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longitud del globo ocular que hace que los objetos se dibujen detrás de la retina. Se corrige con lentes convergen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Arial"/>
              </a:rPr>
              <a:t>Astigmatismo: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cornea con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curvatura irregular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. Se corrige con lentes cilíndric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Higiene de los ojo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lavar, buena luz, distancias adecuadas, evitar leer en movimien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5" descr="Acomodacion"/>
          <p:cNvPicPr/>
          <p:nvPr/>
        </p:nvPicPr>
        <p:blipFill>
          <a:blip r:embed="rId1"/>
          <a:stretch/>
        </p:blipFill>
        <p:spPr>
          <a:xfrm>
            <a:off x="2124000" y="4862520"/>
            <a:ext cx="5062680" cy="19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000000"/>
                </a:solidFill>
                <a:latin typeface="Arial"/>
              </a:rPr>
              <a:t>6. LA ELABORACIÓN DE LA RESPUESTA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50920" y="1904760"/>
            <a:ext cx="4968720" cy="476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Los estímulos captados por los receptores y transformados en </a:t>
            </a:r>
            <a:r>
              <a:rPr b="1" lang="es-ES" sz="2100" spc="-1" strike="noStrike">
                <a:solidFill>
                  <a:srgbClr val="000000"/>
                </a:solidFill>
                <a:latin typeface="Arial"/>
              </a:rPr>
              <a:t>impulsos nerviosos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 son enviados a la médula y al </a:t>
            </a:r>
            <a:r>
              <a:rPr b="1" lang="es-ES" sz="2100" spc="-1" strike="noStrike">
                <a:solidFill>
                  <a:srgbClr val="000000"/>
                </a:solidFill>
                <a:latin typeface="Arial"/>
              </a:rPr>
              <a:t>cerebro 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donde se </a:t>
            </a:r>
            <a:r>
              <a:rPr b="0" lang="es-ES" sz="2100" spc="-1" strike="noStrike" u="sng">
                <a:solidFill>
                  <a:srgbClr val="000000"/>
                </a:solidFill>
                <a:uFillTx/>
                <a:latin typeface="Arial"/>
              </a:rPr>
              <a:t>elaboran las órdenes de respuesta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 u="sng">
                <a:solidFill>
                  <a:srgbClr val="000000"/>
                </a:solidFill>
                <a:uFillTx/>
                <a:latin typeface="Arial"/>
              </a:rPr>
              <a:t>La corteza cerebral tiene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Arial"/>
              </a:rPr>
              <a:t>Áreas sensitiva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donde l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mpulsos se traducen en sens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(vemos, oímos, sentimos en el cerebr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Arial"/>
              </a:rPr>
              <a:t>Áreas motora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producen impul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nerviosos que se conducen a l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órganos efectores por medio 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neuronas motor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5" descr="La corteza cerebral está muy replegada para tener más superficie. Tomada de www.psicoactiva.com"/>
          <p:cNvPicPr/>
          <p:nvPr/>
        </p:nvPicPr>
        <p:blipFill>
          <a:blip r:embed="rId1"/>
          <a:stretch/>
        </p:blipFill>
        <p:spPr>
          <a:xfrm>
            <a:off x="5364000" y="2060640"/>
            <a:ext cx="37800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0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3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6" dur="5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1" dur="5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7" dur="500"/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0" dur="500"/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-360" y="2204640"/>
            <a:ext cx="4824360" cy="40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 u="sng">
                <a:solidFill>
                  <a:srgbClr val="000000"/>
                </a:solidFill>
                <a:uFillTx/>
                <a:latin typeface="Arial"/>
              </a:rPr>
              <a:t>Los actos voluntarios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son actos conscientes controlados de forma </a:t>
            </a:r>
            <a:r>
              <a:rPr b="0" lang="es-ES" sz="1700" spc="-1" strike="noStrike">
                <a:solidFill>
                  <a:srgbClr val="ff0000"/>
                </a:solidFill>
                <a:latin typeface="Arial"/>
              </a:rPr>
              <a:t>voluntaria</a:t>
            </a: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 (andar, pensar) y provocados por estímulos (olor a comida-hambriento)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as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áreas sensitivas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de la corteza cerebral reciben estímulos de los receptores sensitiv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 través de las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onexiones nerviosas las áreas motoras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reciben la información de las áreas sensitivas, la procesan y elaboran una respuesta consciente y voluntar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a respuesta es conducida por las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neuronas motoras al órgano ef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859280" y="259920"/>
            <a:ext cx="428472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 u="sng">
                <a:solidFill>
                  <a:srgbClr val="000000"/>
                </a:solidFill>
                <a:uFillTx/>
                <a:latin typeface="Arial"/>
              </a:rPr>
              <a:t>Los actos reflejos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son respuestas </a:t>
            </a:r>
            <a:r>
              <a:rPr b="0" lang="es-ES" sz="1700" spc="-1" strike="noStrike">
                <a:solidFill>
                  <a:srgbClr val="ff0000"/>
                </a:solidFill>
                <a:latin typeface="Arial"/>
              </a:rPr>
              <a:t>rápidas y automáticas</a:t>
            </a: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 sin control voluntario (tos, parpadeo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Las </a:t>
            </a:r>
            <a:r>
              <a:rPr b="0" lang="es-ES" sz="1700" spc="-1" strike="noStrike" u="sng">
                <a:solidFill>
                  <a:srgbClr val="000000"/>
                </a:solidFill>
                <a:uFillTx/>
                <a:latin typeface="Arial"/>
              </a:rPr>
              <a:t>órdenes son elaboradas por neuronas motoras</a:t>
            </a: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 de la médula espinal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700" spc="-1" strike="noStrike">
                <a:solidFill>
                  <a:srgbClr val="000000"/>
                </a:solidFill>
                <a:latin typeface="Arial"/>
              </a:rPr>
              <a:t>Elementos que intervienen en un arco reflejo</a:t>
            </a: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Receptor sensible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al estímu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Una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neurona sensitiva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(estímulo del receptor → médul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Neurona de asociación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en la médula (conecta neurona sensitiva con motor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Neurona motora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transmite el mensaje al músculo correspondi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Músculo efector</a:t>
            </a: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10" descr="arco"/>
          <p:cNvPicPr/>
          <p:nvPr/>
        </p:nvPicPr>
        <p:blipFill>
          <a:blip r:embed="rId1"/>
          <a:stretch/>
        </p:blipFill>
        <p:spPr>
          <a:xfrm>
            <a:off x="5292720" y="4307040"/>
            <a:ext cx="3672000" cy="25509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2" descr="Arco_reflejo"/>
          <p:cNvPicPr/>
          <p:nvPr/>
        </p:nvPicPr>
        <p:blipFill>
          <a:blip r:embed="rId2"/>
          <a:stretch/>
        </p:blipFill>
        <p:spPr>
          <a:xfrm>
            <a:off x="250920" y="189000"/>
            <a:ext cx="435924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71280" y="190440"/>
            <a:ext cx="7848360" cy="129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000000"/>
                </a:solidFill>
                <a:latin typeface="Arial"/>
              </a:rPr>
              <a:t>7. EL SISTEMA LOCOMOTOR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914400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Huesos y músculos esqueléticos se encargan de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jecutar las respuestas motora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ordenadas por el sistema nervioso. La colaboración entre huesos y músculos nos permiten mantener la postura, desplazarnos, moverno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5" descr="esquelet"/>
          <p:cNvPicPr/>
          <p:nvPr/>
        </p:nvPicPr>
        <p:blipFill>
          <a:blip r:embed="rId1"/>
          <a:stretch/>
        </p:blipFill>
        <p:spPr>
          <a:xfrm>
            <a:off x="6300720" y="2852640"/>
            <a:ext cx="2664000" cy="37450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" descr="sistfront"/>
          <p:cNvPicPr/>
          <p:nvPr/>
        </p:nvPicPr>
        <p:blipFill>
          <a:blip r:embed="rId2"/>
          <a:stretch/>
        </p:blipFill>
        <p:spPr>
          <a:xfrm>
            <a:off x="179280" y="2924280"/>
            <a:ext cx="2952720" cy="374472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9"/>
          <p:cNvSpPr/>
          <p:nvPr/>
        </p:nvSpPr>
        <p:spPr>
          <a:xfrm>
            <a:off x="3132000" y="2997360"/>
            <a:ext cx="3024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Arial"/>
                <a:ea typeface="Arial"/>
              </a:rPr>
              <a:t>Esquelet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: armazón interno que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sostiene, proteg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y es donde se insertan los músculos que permiten el movimiento. Tiene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208 huesos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Arial"/>
                <a:ea typeface="Arial"/>
              </a:rPr>
              <a:t>Musculatura esquelétic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: actúan sobre el esqueleto y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ejecutan los movimientos voluntario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. Son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ás de 650 músculos.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47640" y="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000000"/>
                </a:solidFill>
                <a:latin typeface="Arial"/>
              </a:rPr>
              <a:t>8. ARTICULACIONES Y MOVIMIENTO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78920" y="1557360"/>
            <a:ext cx="619308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Las articulacione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on estructuras que unen los huesos del esqueleto y permiten la movilidad de la mayoría de sus piez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Tipos según su movilida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Inmóvil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(cráneo) impide el movimiento de los hues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Semimóviles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(vértebras) realizan pequeños desplazamient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Móviles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(cadera) gran movilidad entre los hues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Elementos de una articulación móvil: </a:t>
            </a:r>
            <a:r>
              <a:rPr b="0" lang="es-ES" sz="2000" spc="-1" strike="noStrike" u="sng">
                <a:solidFill>
                  <a:srgbClr val="ff0000"/>
                </a:solidFill>
                <a:uFillTx/>
                <a:latin typeface="Arial"/>
              </a:rPr>
              <a:t>la rodil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igamentos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fibras muy fuertes que unen los hues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artílago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tejido cartilaginoso que recubre y protege los huesos en contac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ápsula sinovial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bolsa entre los huesos rellena de líquido sinovi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7" descr="Las vértebras se unen mediante articulaciones semimóviles"/>
          <p:cNvPicPr/>
          <p:nvPr/>
        </p:nvPicPr>
        <p:blipFill>
          <a:blip r:embed="rId1"/>
          <a:stretch/>
        </p:blipFill>
        <p:spPr>
          <a:xfrm>
            <a:off x="6443640" y="1628640"/>
            <a:ext cx="270036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58920" y="4723920"/>
            <a:ext cx="8534160" cy="17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Acción de los músculos sobre el esquele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Arial"/>
              </a:rPr>
              <a:t>Tendones: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cordones resistentes de tejido conjuntivo que unen los músculos a los hues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Gracias a las articulaciones los músculos mueven los huesos. Los músculos trabajan coordinadamente por parejas que funcionan de forma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antagónic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(bíceps-trícep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5" descr="Radiografía de fractura de femur"/>
          <p:cNvPicPr/>
          <p:nvPr/>
        </p:nvPicPr>
        <p:blipFill>
          <a:blip r:embed="rId1"/>
          <a:stretch/>
        </p:blipFill>
        <p:spPr>
          <a:xfrm>
            <a:off x="6300720" y="1989000"/>
            <a:ext cx="2448000" cy="25923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ligamens"/>
          <p:cNvPicPr/>
          <p:nvPr/>
        </p:nvPicPr>
        <p:blipFill>
          <a:blip r:embed="rId2"/>
          <a:stretch/>
        </p:blipFill>
        <p:spPr>
          <a:xfrm>
            <a:off x="1476360" y="2421000"/>
            <a:ext cx="3382920" cy="194472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8"/>
          <p:cNvSpPr/>
          <p:nvPr/>
        </p:nvSpPr>
        <p:spPr>
          <a:xfrm>
            <a:off x="1403280" y="0"/>
            <a:ext cx="7272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Lesiones en el sistema locomotor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- Contracturas musculares.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- Fracturas óseas.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- Luxaciones (salida de los huesos de las articulaciones).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- Esguinces (lesión de ligamentos).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- Roturas de ligamentos y cartílagos.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1258920" y="620640"/>
            <a:ext cx="7634160" cy="28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 u="sng">
                <a:solidFill>
                  <a:srgbClr val="000000"/>
                </a:solidFill>
                <a:uFillTx/>
                <a:latin typeface="Arial"/>
              </a:rPr>
              <a:t>Las palancas del cuerpo humano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Huesos y articulacione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constituyen un sistema de palancas sobre las que actúan los múscul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 la palanca se distinguen 3 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elemen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Arial"/>
              </a:rPr>
              <a:t>Punto de potencia (P)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donde se aplica la fuerz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Arial"/>
              </a:rPr>
              <a:t>Punto de apoyo (A)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donde se sustenta la palan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Arial"/>
              </a:rPr>
              <a:t>Punto de resistencia (R)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donde se sitúa la fuerza que hay que venc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21" descr="palosea"/>
          <p:cNvPicPr/>
          <p:nvPr/>
        </p:nvPicPr>
        <p:blipFill>
          <a:blip r:embed="rId1"/>
          <a:stretch/>
        </p:blipFill>
        <p:spPr>
          <a:xfrm>
            <a:off x="1476360" y="3645000"/>
            <a:ext cx="7272360" cy="3213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1547640" y="259920"/>
            <a:ext cx="7010640" cy="18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Tipos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e palancas según la disposición de sus elementos: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Primer géner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permite mucha movilidad,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otencia y acciones.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Segundo géner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vence grandes resistencias, no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grandes desplazamientos.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Tercer géner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extensos desplazamientos, no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vence resistencias.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4" descr="animapal1"/>
          <p:cNvPicPr/>
          <p:nvPr/>
        </p:nvPicPr>
        <p:blipFill>
          <a:blip r:embed="rId1"/>
          <a:stretch/>
        </p:blipFill>
        <p:spPr>
          <a:xfrm>
            <a:off x="179280" y="2565360"/>
            <a:ext cx="2849760" cy="21369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5" descr="palosea3"/>
          <p:cNvPicPr/>
          <p:nvPr/>
        </p:nvPicPr>
        <p:blipFill>
          <a:blip r:embed="rId2"/>
          <a:stretch/>
        </p:blipFill>
        <p:spPr>
          <a:xfrm>
            <a:off x="5830920" y="4941720"/>
            <a:ext cx="3313080" cy="13543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6" descr="animapal2"/>
          <p:cNvPicPr/>
          <p:nvPr/>
        </p:nvPicPr>
        <p:blipFill>
          <a:blip r:embed="rId3"/>
          <a:stretch/>
        </p:blipFill>
        <p:spPr>
          <a:xfrm>
            <a:off x="3203640" y="2565360"/>
            <a:ext cx="2808360" cy="21067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7" descr="palosea2"/>
          <p:cNvPicPr/>
          <p:nvPr/>
        </p:nvPicPr>
        <p:blipFill>
          <a:blip r:embed="rId4"/>
          <a:stretch/>
        </p:blipFill>
        <p:spPr>
          <a:xfrm>
            <a:off x="3995640" y="4724280"/>
            <a:ext cx="1505160" cy="16765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8" descr="animapal3"/>
          <p:cNvPicPr/>
          <p:nvPr/>
        </p:nvPicPr>
        <p:blipFill>
          <a:blip r:embed="rId5"/>
          <a:stretch/>
        </p:blipFill>
        <p:spPr>
          <a:xfrm>
            <a:off x="6156360" y="2565360"/>
            <a:ext cx="2808360" cy="21067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9" descr="palosea1"/>
          <p:cNvPicPr/>
          <p:nvPr/>
        </p:nvPicPr>
        <p:blipFill>
          <a:blip r:embed="rId6"/>
          <a:stretch/>
        </p:blipFill>
        <p:spPr>
          <a:xfrm>
            <a:off x="324000" y="4869000"/>
            <a:ext cx="2612880" cy="164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000000"/>
                </a:solidFill>
                <a:latin typeface="Arial"/>
              </a:rPr>
              <a:t>1. LA PERCEPCIÓN DEL MEDIO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878544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 u="sng">
                <a:solidFill>
                  <a:srgbClr val="000000"/>
                </a:solidFill>
                <a:uFillTx/>
                <a:latin typeface="Arial"/>
              </a:rPr>
              <a:t>Receptores sensitivos: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 convierten estímulos físico-químicos en impulsos nerviosos, que son transmitidos por el sistema nervioso periférico hasta el sistema nervioso centr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stímulo: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son cambios ambientales que pueden ser detectados por nuestro organismo. Los estímulos son captados por unas células nerviosas sensibles= recept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ipos de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eceptores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según su localizació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Internos: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(interorreceptores) informan sobre el estado y funcionamiento de órganos intern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Externos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(exterorreceptores) captan estímulos exteriores, se localizan en la superficie de nuestro organism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ipos de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eceptore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según el estímulo que recib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Mecanorreceptores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ambios de presió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Termorreceptores: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ambios de temperatur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Quimiorreceptores</a:t>
            </a:r>
            <a:r>
              <a:rPr b="0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sustancias químic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Fotorreceptores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sensibles a la luz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" dur="5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" dur="500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" dur="500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" dur="500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 u="sng">
                <a:solidFill>
                  <a:srgbClr val="000000"/>
                </a:solidFill>
                <a:uFillTx/>
                <a:latin typeface="Arial"/>
              </a:rPr>
              <a:t>ESQUEMA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5" descr="mapa"/>
          <p:cNvPicPr/>
          <p:nvPr/>
        </p:nvPicPr>
        <p:blipFill>
          <a:blip r:embed="rId1"/>
          <a:stretch/>
        </p:blipFill>
        <p:spPr>
          <a:xfrm>
            <a:off x="179280" y="1916280"/>
            <a:ext cx="8659800" cy="3946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476360" y="189000"/>
            <a:ext cx="7058160" cy="5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Los órganos de los sentido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826920" y="3716280"/>
          <a:ext cx="7850520" cy="2676600"/>
        </p:xfrm>
        <a:graphic>
          <a:graphicData uri="http://schemas.openxmlformats.org/drawingml/2006/table">
            <a:tbl>
              <a:tblPr/>
              <a:tblGrid>
                <a:gridCol w="1186200"/>
                <a:gridCol w="1258560"/>
                <a:gridCol w="1406520"/>
                <a:gridCol w="1408320"/>
                <a:gridCol w="1481040"/>
                <a:gridCol w="1109880"/>
              </a:tblGrid>
              <a:tr h="92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tido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TACTO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OLFATO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GUSTO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OÍDO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VISTA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95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ímulo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ión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stancias químicas gaseosas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stancias químicas disueltas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braciones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z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Órgano receptor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el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sas nasales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ngua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ído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jo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6" name="Picture 41" descr="Los sentidos nos permiten recibir información de nuestro mundo."/>
          <p:cNvPicPr/>
          <p:nvPr/>
        </p:nvPicPr>
        <p:blipFill>
          <a:blip r:embed="rId1"/>
          <a:stretch/>
        </p:blipFill>
        <p:spPr>
          <a:xfrm>
            <a:off x="3132000" y="692280"/>
            <a:ext cx="2838600" cy="28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000000"/>
                </a:solidFill>
                <a:latin typeface="Arial"/>
              </a:rPr>
              <a:t>2. EL SENTIDO DEL TACTO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95280" y="1773000"/>
            <a:ext cx="842472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 u="sng">
                <a:solidFill>
                  <a:srgbClr val="000000"/>
                </a:solidFill>
                <a:uFillTx/>
                <a:latin typeface="Arial"/>
              </a:rPr>
              <a:t>La piel: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 reviste, protege el cuerpo y contiene los receptores táctiles. Está constituida por </a:t>
            </a:r>
            <a:r>
              <a:rPr b="1" lang="es-ES" sz="2100" spc="-1" strike="noStrike">
                <a:solidFill>
                  <a:srgbClr val="000000"/>
                </a:solidFill>
                <a:latin typeface="Arial"/>
              </a:rPr>
              <a:t>dos capas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Epidermis: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la más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 superficial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, está constituida por </a:t>
            </a:r>
            <a:r>
              <a:rPr b="0" lang="es-ES" sz="2000" spc="-1" strike="noStrike">
                <a:solidFill>
                  <a:srgbClr val="ff0000"/>
                </a:solidFill>
                <a:latin typeface="Arial"/>
              </a:rPr>
              <a:t>tejido epitelial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en varias capas. Las capas superficiales están cubiertas de </a:t>
            </a:r>
            <a:r>
              <a:rPr b="0" lang="es-ES" sz="2000" spc="-1" strike="noStrike">
                <a:solidFill>
                  <a:srgbClr val="ff0000"/>
                </a:solidFill>
                <a:latin typeface="Arial"/>
              </a:rPr>
              <a:t>queratin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que impermeabiliza y melanocitos que producen un pigmento (</a:t>
            </a:r>
            <a:r>
              <a:rPr b="0" lang="es-ES" sz="2000" spc="-1" strike="noStrike">
                <a:solidFill>
                  <a:srgbClr val="ff0000"/>
                </a:solidFill>
                <a:latin typeface="Arial"/>
              </a:rPr>
              <a:t>melanin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que da color a la piel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e la epidermis deriva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- uñas (protege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- pelos (termoregula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- glándulas sebáceas (grasa impermeabilizan el pelo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- glándulas sudoríparas (sudor refrigera la piel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Dermis: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la más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profund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, constituida de </a:t>
            </a:r>
            <a:r>
              <a:rPr b="0" lang="es-ES" sz="2000" spc="-1" strike="noStrike">
                <a:solidFill>
                  <a:srgbClr val="ff0000"/>
                </a:solidFill>
                <a:latin typeface="Arial"/>
              </a:rPr>
              <a:t>tejido conjuntiv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. Tiene vasos sanguíneos, músculos y receptores táctiles. Debajo del tejido conjuntivo hay una capa de </a:t>
            </a:r>
            <a:r>
              <a:rPr b="0" lang="es-ES" sz="2000" spc="-1" strike="noStrike">
                <a:solidFill>
                  <a:srgbClr val="ff0000"/>
                </a:solidFill>
                <a:latin typeface="Arial"/>
              </a:rPr>
              <a:t>tejido adipos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que protege y sirve de aislante térmi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179280" y="188640"/>
            <a:ext cx="489744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 u="sng">
                <a:solidFill>
                  <a:srgbClr val="000000"/>
                </a:solidFill>
                <a:uFillTx/>
                <a:latin typeface="Arial"/>
              </a:rPr>
              <a:t>Los receptores táctiles:</a:t>
            </a:r>
            <a:r>
              <a:rPr b="0" lang="es-ES" sz="2500" spc="-1" strike="noStrike">
                <a:solidFill>
                  <a:srgbClr val="000000"/>
                </a:solidFill>
                <a:latin typeface="Arial"/>
              </a:rPr>
              <a:t> son terminaciones nerviosas libres o encerradas en cápsulas que se hayan dispersas por la piel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ceptores 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según el estímul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Arial"/>
              </a:rPr>
              <a:t>Corpúsculos de Meissner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presiones ligeras de contac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Arial"/>
              </a:rPr>
              <a:t>Corpúsculos de Pacini: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presiones fuertes y vibr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Arial"/>
              </a:rPr>
              <a:t>Corpúsculos de Ruffini: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tacto, presión y aumento de tempera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Arial"/>
              </a:rPr>
              <a:t>Corpúsculos de Kraus: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descenso de temperatu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Arial"/>
              </a:rPr>
              <a:t>Terminaciones nerviosas libre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sensación de dolor, calor y tempera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 u="sng">
                <a:solidFill>
                  <a:srgbClr val="000000"/>
                </a:solidFill>
                <a:uFillTx/>
                <a:latin typeface="Arial"/>
              </a:rPr>
              <a:t>Higiene de la piel</a:t>
            </a:r>
            <a:r>
              <a:rPr b="0" lang="es-ES" sz="2500" spc="-1" strike="noStrike">
                <a:solidFill>
                  <a:srgbClr val="000000"/>
                </a:solidFill>
                <a:latin typeface="Arial"/>
              </a:rPr>
              <a:t>: limpieza con agua y jabón, duch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La piel es un órgano muy complejo que alberga a los receptores del tacto y del dolor. Adaptada de salud.discoveryespanol.com"/>
          <p:cNvPicPr/>
          <p:nvPr/>
        </p:nvPicPr>
        <p:blipFill>
          <a:blip r:embed="rId1"/>
          <a:stretch/>
        </p:blipFill>
        <p:spPr>
          <a:xfrm>
            <a:off x="5076720" y="692280"/>
            <a:ext cx="40672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000000"/>
                </a:solidFill>
                <a:latin typeface="Arial"/>
              </a:rPr>
              <a:t>3. EL SENTIDO DEL OLFATO Y EL GUSTO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-360" y="2349000"/>
            <a:ext cx="39956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Olfato: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se localiza en las fosas nasales. Esta cavidad está revestida por el epitelio de la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mucosa nasal= Pituitari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que tiene dos zon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Arial"/>
              </a:rPr>
              <a:t>Pituitaria Roj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parte inferior y media de la cavidad. Tiene abundantes capilares que calientan el 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Arial"/>
              </a:rPr>
              <a:t>Pituitaria Amarill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parte superior de las fosas nasales. Tiene los receptores olfativos con células ciliadas que reciben y transportan estímul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332640" y="1628640"/>
            <a:ext cx="814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6666"/>
                </a:solidFill>
                <a:latin typeface="Arial"/>
              </a:rPr>
              <a:t>Los sentidos del olfato y el gusto trabajan conjuntamente para que se aprecien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6666"/>
                </a:solidFill>
                <a:latin typeface="Arial"/>
              </a:rPr>
              <a:t>y reconozcan los sabores característicos de los alimentos.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250920" y="6093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05" name="Picture 12" descr="Los receptores del olfato se encuentran en la cavidad nasal. Adaptada de psyserver.pc.rhul.ac.uk"/>
          <p:cNvPicPr/>
          <p:nvPr/>
        </p:nvPicPr>
        <p:blipFill>
          <a:blip r:embed="rId1"/>
          <a:stretch/>
        </p:blipFill>
        <p:spPr>
          <a:xfrm>
            <a:off x="4284720" y="2924280"/>
            <a:ext cx="4680000" cy="3565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0" y="4292280"/>
            <a:ext cx="83548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Gusto: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los receptores están en los botones gustativos de las papilas de la lengua, paladar, faringe y laringe. Hay receptores para cuatro tipos de sabores: 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dulce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salado, ácido y amarg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El sabor es una combinación del sentido del gusto y del olfato. Tomada de www.msd.es"/>
          <p:cNvPicPr/>
          <p:nvPr/>
        </p:nvPicPr>
        <p:blipFill>
          <a:blip r:embed="rId1"/>
          <a:stretch/>
        </p:blipFill>
        <p:spPr>
          <a:xfrm>
            <a:off x="1187280" y="189000"/>
            <a:ext cx="6769440" cy="389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8" name="Rectangle 5"/>
          <p:cNvSpPr/>
          <p:nvPr/>
        </p:nvSpPr>
        <p:spPr>
          <a:xfrm>
            <a:off x="327240" y="6093000"/>
            <a:ext cx="661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Higiene del olfato y gusto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limpieza y cepillado de los dientes.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000000"/>
                </a:solidFill>
                <a:latin typeface="Arial"/>
              </a:rPr>
              <a:t>4. EL SENTIDO DEL OÍDO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-360" y="836640"/>
            <a:ext cx="622764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os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oído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son los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órganos de la audición y del equilibri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Estructura del oíd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se distinguen tres par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Arial"/>
              </a:rPr>
              <a:t>Oído extern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formado p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Pabellón de la orej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repliegue de la piel y cartílag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Conducto auditivo extern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con glándulas que produc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cerumen y cerrado en su extremo final por el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ímpa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Arial"/>
              </a:rPr>
              <a:t>Oído medi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tiene tres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huesecillo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encadenados: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martillo, yunque y estrib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que conectan el tímpano con el oído intern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munica con la faringe a través de la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trompa de Eustaqui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(equilibra la presión a ambos lados del tímpano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Arial"/>
              </a:rPr>
              <a:t>Oído intern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formado por un laberinto óse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elleno de un líquido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(perilinfa)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dentro hay otro laberinto membranoso relleno de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ndolinf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laberinto tiene dos par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Canales semicirculare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sentido del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equilibr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Cóclea o caracol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reside el sentido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auditiv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&quot;Estructura interna de oído. Adaptado de www.tchain.com&quot;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72360" y="2565360"/>
            <a:ext cx="277164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0"/>
            <a:ext cx="4356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Funcionamiento del oíd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fun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La audición: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las ondas sonoras las recoge el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abellón auditiv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→ conducto auditivo → vibra el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tímpan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→ cadena de huesecillos → líquidos del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aracol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→ mecanorreceptores sensibles convierten el estímulo en impulsos nerviosos → nervio auditivo → cerebr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El equilibrio: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al mover la cabeza se mueve la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ndolinfa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→ mueve los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receptores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e la pared → lo transforma en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impulsos nervioso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→ manda la información al cerebr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os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receptore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del oído perciben vibraciones y producen impulsos nerviosos que son transportados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por el nervio auditivo al cerebr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Higiene del oído: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limpiar con agua y jabón, evitar música muy alta, no introducir obje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7" descr="Laberinto membranoso, estructura que alberga a los receptores del oído y del equilibrio. Adaptada de www.tchain.com"/>
          <p:cNvPicPr/>
          <p:nvPr/>
        </p:nvPicPr>
        <p:blipFill>
          <a:blip r:embed="rId1"/>
          <a:stretch/>
        </p:blipFill>
        <p:spPr>
          <a:xfrm>
            <a:off x="4427640" y="333360"/>
            <a:ext cx="453708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9T15:14:43Z</dcterms:created>
  <dc:creator>Meri</dc:creator>
  <dc:description/>
  <dc:language>en-US</dc:language>
  <cp:lastModifiedBy>Centor</cp:lastModifiedBy>
  <dcterms:modified xsi:type="dcterms:W3CDTF">2016-03-19T18:18:49Z</dcterms:modified>
  <cp:revision>59</cp:revision>
  <dc:subject/>
  <dc:title>TEMA 6: ESTÍMULO Y RESPUESTA. RECEPTORES Y EFECTORES</dc:title>
</cp:coreProperties>
</file>